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DFC-9768-45E8-B9D5-19D0D3A1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AA1-A499-4D14-AB5C-8F0EEF87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99C-80FF-4242-9901-A925D3AD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50C7-D6B5-4207-A3DC-284D0396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385-0E1A-46AB-BF2C-8BB03F6D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7BC-4FF5-4F3E-9FB2-01EDF276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7C5-E186-49D4-8E03-AACE59E4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4CC-65FD-47F4-9516-DB1C7896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686-C0A1-46E6-83B0-731E3F71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E99-7BA9-4CDB-AB67-CB9C94F4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A44-EA1A-465A-B2C6-75D5C895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33C-F109-4043-A280-5E76C61D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3A3C-9A6A-4876-A592-7C825BCFD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66ff99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0160" y="201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057400"/>
            <a:ext cx="5461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Qu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é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Arial"/>
              </a:rPr>
              <a:t>El esterno de el Cascanu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Cuand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Arial"/>
              </a:rPr>
              <a:t>15, de December 12:00 y 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Dond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Arial"/>
              </a:rPr>
              <a:t>los teatros de Broadway, Neuve York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La taquill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Arial"/>
              </a:rPr>
              <a:t>$35- Adultos   $25- 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6934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Hol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Bienvenidos a los </a:t>
            </a:r>
            <a:r>
              <a:rPr b="1" lang="en-US" sz="1400" spc="-1" strike="noStrike" u="sng">
                <a:solidFill>
                  <a:srgbClr val="ff00ff"/>
                </a:solidFill>
                <a:uFillTx/>
                <a:latin typeface="Arial"/>
              </a:rPr>
              <a:t>teatros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de Broadway, es muy grande y muy elega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para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ver</a:t>
            </a:r>
            <a:r>
              <a:rPr b="0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el Cascanueces, los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boletos</a:t>
            </a: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 son $35 para adultos y $25 para los ni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El paisaje es muy bonito. Los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butacas</a:t>
            </a: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 son muy c</a:t>
            </a:r>
            <a:r>
              <a:rPr b="0" lang="el-GR" sz="1400" spc="-1" strike="noStrike">
                <a:solidFill>
                  <a:srgbClr val="ff00ff"/>
                </a:solidFill>
                <a:latin typeface="Arial"/>
                <a:ea typeface="Arial"/>
              </a:rPr>
              <a:t>ό</a:t>
            </a: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modos. Meriandas; coca cola, papas fritas, una limonada, una tortilla. Cerca de los teatros un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metro</a:t>
            </a: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, y un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taxi</a:t>
            </a:r>
            <a:r>
              <a:rPr b="1" lang="es-ES" sz="1400" spc="-1" strike="noStrike">
                <a:solidFill>
                  <a:srgbClr val="ff00ff"/>
                </a:solidFill>
                <a:latin typeface="Arial"/>
              </a:rPr>
              <a:t>.</a:t>
            </a: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No, hay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gente</a:t>
            </a: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 en la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fila</a:t>
            </a:r>
            <a:r>
              <a:rPr b="1" lang="es-ES" sz="1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delante</a:t>
            </a:r>
            <a:r>
              <a:rPr b="0" lang="es-ES" sz="1400" spc="-1" strike="noStrike">
                <a:solidFill>
                  <a:srgbClr val="ff00ff"/>
                </a:solidFill>
                <a:latin typeface="Arial"/>
              </a:rPr>
              <a:t> de la </a:t>
            </a:r>
            <a:r>
              <a:rPr b="1" lang="es-ES" sz="1400" spc="-1" strike="noStrike" u="sng">
                <a:solidFill>
                  <a:srgbClr val="ff00ff"/>
                </a:solidFill>
                <a:uFillTx/>
                <a:latin typeface="Arial"/>
              </a:rPr>
              <a:t>taquilla</a:t>
            </a:r>
            <a:r>
              <a:rPr b="1" lang="es-ES" sz="1400" spc="-1" strike="noStrike">
                <a:solidFill>
                  <a:srgbClr val="ff00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457200"/>
            <a:ext cx="764856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invenidos!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s teatros de Broadway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3148200" cy="1865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2920" y="152280"/>
            <a:ext cx="1542960" cy="1157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28600" y="6019920"/>
            <a:ext cx="337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!Dos Por Uno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867280" y="5867280"/>
            <a:ext cx="25718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Gran Experiencia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2209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3:26:05Z</dcterms:created>
  <dc:creator>hillnic</dc:creator>
  <dc:description/>
  <dc:language>en-US</dc:language>
  <cp:lastModifiedBy>hillnic</cp:lastModifiedBy>
  <dcterms:modified xsi:type="dcterms:W3CDTF">2011-12-22T19:06:57Z</dcterms:modified>
  <cp:revision>6</cp:revision>
  <dc:subject/>
  <dc:title>Los teatros de Broadway</dc:title>
</cp:coreProperties>
</file>